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BECF-D5B9-4AF2-9F28-B46AA0D76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83C2-BF5C-45FB-991A-4AEF8F3A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490B-CA10-40E1-A824-AAFE09D5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765C-F123-4018-8B8A-CB2571ED7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8214-EA3C-4452-ACA6-3735CD77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5C3C-571D-4B7C-B407-D1651C73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5E63-17F5-45FE-85E9-134C1C0A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9112-6A45-4096-8114-E92E6C93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B47F-A42C-4BAA-8145-EA0A0C3E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9EA6-B37A-4444-9EE1-F7B1E51E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008A-58B4-4227-A88A-A37AE26E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AC27-FD72-4E30-9B88-4A0850E2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D86E-2C6B-48C3-818C-143EC824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C00C-3DFF-4DFB-A691-163931E6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1429-AF85-4551-8B12-14FB4CF6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596A-9001-4F66-8A01-F41CD574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ADA0-C192-4867-989C-08ADE5BC4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F48A-BE97-4985-ACA1-B3D96182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1498-03FC-4357-8098-84A753E9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0242-5DB3-4B85-B08F-D25A8064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68E9-6465-4920-90D9-F2E4A7B4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5254-D9D0-44A6-962C-D2AF8C70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76D0-2294-45D1-BBC9-6C478A4F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77E4-F8EC-4BBC-96E1-337DEB65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CE9A-1981-43D1-8B12-19D709189254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BE85-B770-421D-8115-A7FA525260A4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n.wikipedia.org/wiki/Image:Map_of_Great_Plains.svg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0/Chicago_stockyards_cattle_pens_men_1909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hapter 4:  Settling the Wes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05120" y="4190760"/>
            <a:ext cx="6400800" cy="28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2.  Long Driv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attle would be rounded-up; 2-5,00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bout 3 months lo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wboy traveled from ranch to the shipping yar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eather and stampedes biggest risk factors to the cowbo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2280" y="2743200"/>
            <a:ext cx="5469120" cy="3676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06920" y="762120"/>
            <a:ext cx="4537080" cy="48006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ong Driv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852560"/>
            <a:ext cx="9144000" cy="5005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ong Driv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3.  The Wide-open West comes to an end!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2361960"/>
            <a:ext cx="4372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.  Joseph Glidde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66680" indent="-495000">
              <a:spcBef>
                <a:spcPts val="601"/>
              </a:spcBef>
              <a:buClr>
                <a:srgbClr val="fac164"/>
              </a:buClr>
              <a:buSzPct val="75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ekalb, Illinois farm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66680" indent="-495000">
              <a:spcBef>
                <a:spcPts val="601"/>
              </a:spcBef>
              <a:buClr>
                <a:srgbClr val="fac164"/>
              </a:buClr>
              <a:buSzPct val="75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Inventor of barb-wir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66680" indent="-495000">
              <a:spcBef>
                <a:spcPts val="601"/>
              </a:spcBef>
              <a:buClr>
                <a:srgbClr val="fac164"/>
              </a:buClr>
              <a:buSzPct val="75000"/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heap and easy to us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19480" y="21016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" descr="Barbed Wire fence post"/>
          <p:cNvPicPr/>
          <p:nvPr/>
        </p:nvPicPr>
        <p:blipFill>
          <a:blip r:embed="rId1"/>
          <a:stretch/>
        </p:blipFill>
        <p:spPr>
          <a:xfrm>
            <a:off x="5334120" y="2133720"/>
            <a:ext cx="3235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4.1:  Miners and Rancher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The discovery of gold, silver, and other minerals attracted thousands of settlers who established new states on the fronti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.  Mining for Gold and Silv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6" name="" descr="California Mining Village"/>
          <p:cNvPicPr/>
          <p:nvPr/>
        </p:nvPicPr>
        <p:blipFill>
          <a:blip r:embed="rId2"/>
          <a:stretch/>
        </p:blipFill>
        <p:spPr>
          <a:xfrm>
            <a:off x="914400" y="2057400"/>
            <a:ext cx="3886200" cy="2967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California Gold Mine"/>
          <p:cNvPicPr/>
          <p:nvPr/>
        </p:nvPicPr>
        <p:blipFill>
          <a:blip r:embed="rId3"/>
          <a:stretch/>
        </p:blipFill>
        <p:spPr>
          <a:xfrm>
            <a:off x="4876920" y="3040200"/>
            <a:ext cx="42670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1.  Pros and Cons of Mining</a:t>
            </a:r>
            <a:br>
              <a:rPr sz="4400"/>
            </a:b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(pair share)</a:t>
            </a: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Pr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ailroads increas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tatehood increas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ities developed and “</a:t>
            </a: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Boomed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”- economy grew rapidly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28880" indent="-4572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C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ncreased crim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estruction of lan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host towns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2.  Realities of Mining &amp; Boomtown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" descr="Cowboys in a Saloon"/>
          <p:cNvPicPr/>
          <p:nvPr/>
        </p:nvPicPr>
        <p:blipFill>
          <a:blip r:embed="rId2"/>
          <a:stretch/>
        </p:blipFill>
        <p:spPr>
          <a:xfrm>
            <a:off x="1676520" y="1905120"/>
            <a:ext cx="3429000" cy="2789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The Dalton Gang in Death"/>
          <p:cNvPicPr/>
          <p:nvPr/>
        </p:nvPicPr>
        <p:blipFill>
          <a:blip r:embed="rId3"/>
          <a:stretch/>
        </p:blipFill>
        <p:spPr>
          <a:xfrm>
            <a:off x="5715000" y="1905120"/>
            <a:ext cx="3429000" cy="263988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990720" y="-1981080"/>
            <a:ext cx="5116320" cy="12072960"/>
            <a:chOff x="990720" y="-1981080"/>
            <a:chExt cx="5116320" cy="12072960"/>
          </a:xfrm>
        </p:grpSpPr>
        <p:sp>
          <p:nvSpPr>
            <p:cNvPr id="105" name=""/>
            <p:cNvSpPr/>
            <p:nvPr/>
          </p:nvSpPr>
          <p:spPr>
            <a:xfrm>
              <a:off x="990720" y="-1981080"/>
              <a:ext cx="5116320" cy="120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0720" y="-1981080"/>
              <a:ext cx="893520" cy="44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b5249"/>
                  </a:solidFill>
                  <a:latin typeface="Times New Roman"/>
                </a:rPr>
                <a:t>  </a:t>
              </a:r>
              <a:r>
                <a:rPr b="0" lang="en-US" sz="25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r>
                <a:rPr b="0" lang="en-US" sz="1200" spc="-1" strike="noStrike">
                  <a:solidFill>
                    <a:srgbClr val="5b5249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3962520" y="4317840"/>
            <a:ext cx="3197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.  Growth of the Cattle Indust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72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Ranchers built vast cattle ranches on the Great Plains and shipped their cattle on railroads to eastern market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at Plain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2" name="" descr="The Great Plains covers most of the central United States, portions of Canada and Mexico. The 100th meridian west is denoted with the red line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371600"/>
            <a:ext cx="83818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wboys &amp; Cattl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4" name="" descr="Ozarks Santa Catalina, Longhorn Cow"/>
          <p:cNvPicPr/>
          <p:nvPr/>
        </p:nvPicPr>
        <p:blipFill>
          <a:blip r:embed="rId1"/>
          <a:stretch/>
        </p:blipFill>
        <p:spPr>
          <a:xfrm>
            <a:off x="3429000" y="4826160"/>
            <a:ext cx="2971800" cy="2031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80880" y="1828800"/>
            <a:ext cx="4572000" cy="3006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424480" y="1066680"/>
            <a:ext cx="37195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1.  Railroads, Cowboys &amp; Cattl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emand for beef increas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R routes increased = transport of cattle to big citi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ncrease in demand for cowboys = long driv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19480" y="21016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0" name="" descr="Image:Chicago stockyards cattle pens men 190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752480"/>
            <a:ext cx="416412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1-09-21T16:17:21Z</dcterms:modified>
  <cp:revision>16</cp:revision>
  <dc:subject/>
  <dc:title>PowerPoint Presentation</dc:title>
</cp:coreProperties>
</file>